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E564-D885-4468-AC88-1222DE530A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2FF8-F915-4974-9BF5-8FDA8038B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9139-03D6-47A9-B4C5-E3829052A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1115-08AF-4C4F-ABC7-A65F11C44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A253-B61B-4DF9-87B7-F55EDCA99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CCBE-62E6-40CE-B9BC-48FFFCF21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9E6F-0428-43EB-8079-05F0F7E34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381A-3139-46E8-B948-1BEF11D39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4B1E-06FD-43DB-8430-679FC3063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858C-353A-4053-A92E-B906A6B64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8ED1-1B7F-4C84-AD64-EB4C2EC7C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B92E-E6DA-4B4E-9DC8-32431AEA8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0543-7C7B-432F-8A82-053B90DAD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935B-6C3D-40DA-9B0E-1B30BAAC0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7FB1-A9B4-48D8-8C60-EFEFBAACE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13A0-FD46-48ED-A194-E8A2D02AB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6B5B-F908-421C-BBE5-D37CEA6BF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92F9-7A0B-44A6-8D53-9F8DD42BD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E9CB-2A81-447A-B3BC-0C062D6C1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4A81-0AE1-4F68-9291-52DCF8F0E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3D62-BFF1-4B56-94E3-AB1B6102C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4DF6-88AF-4D42-B43C-9ADAD40F8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36DE-717D-40D0-A2C0-6CDB69531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1EB1-6FD6-4BE1-8604-37931483A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BA97-0EEB-4751-AE37-A2B1116FB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0A6C-C29A-480B-8FCC-3064D0614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00F8-9683-4F8F-BE44-F28817B0E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545E-2EB3-4CC6-8333-9B7148C60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51D3-DBF8-491F-9D9A-83925A213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9733-7C42-4689-BD33-E830A307D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E08-9F5B-4726-898E-20CACF79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850-0B81-4613-A1F1-9B51BB3A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590F-5C78-4A8C-A4AB-1DBC9747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23FD-812C-45EE-B2F5-6C6BEE2C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10F-C106-45BD-A840-8977F98A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C54-8B7D-400E-9017-267B7BB3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88E-A4B1-429F-9C51-0288264A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410-71EB-4243-9E62-F7D964E7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094-E9E5-4AFD-8A38-B05FE64F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18F-A41C-49F9-AA7D-9E086833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24D-B665-4828-97F6-26A6B512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68E-F583-48C8-8341-9002C36A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183E-D1F0-463C-98D5-6650EA29DC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28CC-FB47-4AEF-82CA-A9380F479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787320"/>
            <a:ext cx="9144000" cy="574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1. After a volcanic eruption has covered an area with lava, which of the following is the most likely order of succession in the repopulation of the are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. lichen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grasse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shrub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r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. mosse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grasse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lichen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r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C. grasse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ree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mosse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lichen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. shrub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grasse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ree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liche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2. Driving your car directly impacts which nutrient cycl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 nitrogen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 carb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C water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 phosphor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ats to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tinctio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when a species disappears from all or part of its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dangere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ecies-a species whose population size places it in danger of exti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70707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esticide-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 chemical used to kill ins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DT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harmful pesticide banned in the 1970s after causing major harm to bald eagles and other large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ever, DDT helps stop insect-borne diseases such 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malaria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iologica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magnification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concentrations of a harmful substance increase in organisms at higher trophic levels in a food chain or food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erefore the pollution gets worse at each level as you go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33404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ilent Spring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s a book written by Rach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arson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in 1962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e book condemned the use of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DT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as a pesticide.  Carson claimed that DDT was causing birds to produce eggs with th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hells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that caused a lot of death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803920" y="1676520"/>
            <a:ext cx="334008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28600" y="426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ilent Sprin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s a very controversial book and started a lot of discussion that led to the banning of DD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book is also credited with starting the environment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ovemen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f the 1970s that tried to prevent actions that harmed the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2521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2280" y="88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nservatio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the wise management of natural resources including the preservation of habitats and wild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y efforts are ai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 managing individ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es to keep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rom becoming extin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4782960" y="2362320"/>
            <a:ext cx="4132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erv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day, conservation efforts focus on protecting entire ecosystems as well as single species.  Protecting an ecosystem will ensure that the natural habitats and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teraction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f many different species are preserved at the same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324480" y="1219320"/>
            <a:ext cx="2590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1320" y="1143000"/>
            <a:ext cx="861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ck look at endangered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No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Magnification Worksheet / Grap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y Review Puzz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-U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se management of natural resources including the preservation of habitats and wildlife is calle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four threats to biodivers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itat de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dlife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asive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tal number of individuals that an environment can support is calle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y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organism’s role in its environment, the food it eats, and the place where it lives is called it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ype of growth do humans show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nential-medicine, sanitation, health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762440" cy="311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5410080" y="0"/>
            <a:ext cx="3733920" cy="391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4"/>
          <a:stretch/>
        </p:blipFill>
        <p:spPr>
          <a:xfrm>
            <a:off x="0" y="4000680"/>
            <a:ext cx="425304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5"/>
          <a:stretch/>
        </p:blipFill>
        <p:spPr>
          <a:xfrm>
            <a:off x="4667400" y="3772080"/>
            <a:ext cx="4476600" cy="308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6"/>
          <a:stretch/>
        </p:blipFill>
        <p:spPr>
          <a:xfrm>
            <a:off x="2895480" y="1981080"/>
            <a:ext cx="3149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ariety of life on earth is calle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iome Brochure Due Next Fri. (Feb. 18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817560"/>
            <a:ext cx="9144000" cy="583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1. In a stable, long-existing community, the establishment of a single species per niche is most directly the result of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A. parasitism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B. competi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C. interbreeding 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D. overproduc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2. If a single plant species is removed from a food web, then most likely -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A. an animal species will fill the unoccupied nich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B. other plants will produce enough food for herbivor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C. dependent herbivores will have to find new food 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D. carnivores will be unaffected by the los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1320" y="1143000"/>
            <a:ext cx="861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he H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-U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-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914400" y="3936960"/>
            <a:ext cx="6781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me Brochure Due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l. Exam Thurs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Notes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riety 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iodiversit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the total of the genetically based variety of all organisms in the bi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system Diversity-the variety of habitats, communities, and ecological processes in the living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peci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versity-number of different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.5 milli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es currently ex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enetic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ersity-total of all the different forms of genetic information carried by all organisms living on Ear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is one of Earth’s greatest natural resources.  Species of many kinds have provided us with foods, industrial products,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edicin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including painkillers, antibiotics, heart drugs, antidepressants, and anticancer dr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alue of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5960" y="1600200"/>
            <a:ext cx="647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e biodiversity represented by wild plants and animals is a kind of “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library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” of genetic information upon which humans can draw for futur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hen biodiversity is lost, potential sources of material with significant value to the biosphere and humankind may be lost wit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16285" t="0" r="9965" b="0"/>
          <a:stretch/>
        </p:blipFill>
        <p:spPr>
          <a:xfrm>
            <a:off x="6607080" y="533520"/>
            <a:ext cx="2536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reats to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uman activity can reduce biodiversity by causing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Habitat De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.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Wildlife Products De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ol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Invasive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821200" y="3524400"/>
            <a:ext cx="3322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6:19:29Z</dcterms:created>
  <dc:creator>Owner</dc:creator>
  <dc:description/>
  <dc:language>en-US</dc:language>
  <cp:lastModifiedBy>Angela Gorney</cp:lastModifiedBy>
  <dcterms:modified xsi:type="dcterms:W3CDTF">2011-02-05T22:18:20Z</dcterms:modified>
  <cp:revision>57</cp:revision>
  <dc:subject/>
  <dc:title>Biodiversity</dc:title>
</cp:coreProperties>
</file>